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01B0-7483-4B06-AC60-49E11B9B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7F6-E445-433F-90AF-59A6FB75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13F3-52BD-4C2E-893F-5E882C12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83E9-65F6-4E10-B6AD-C822C3BD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D241-C98C-4A55-8168-FC2807F4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76A9-6EF2-4071-B1BC-72DF2862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849A-BB4D-49AD-AE56-88F88E9A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AA76-1D6F-4F7F-BB23-BB94C72F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CB8C-90DF-4A5C-895E-81E953DF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4DE4-2E8D-42B0-B3DD-D26006E1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C46C-36EB-4C25-9EFD-E227A549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171-3552-4C36-ABDF-2F3C403E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A8B1-4557-4B44-AE3C-D4E3B46C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6DD8-A210-4256-B8C0-15482595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A9AB-CEF1-41A0-9455-D153A80A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429C-5CEB-4748-A2E4-2929FE3D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056C-FBE8-4FC4-B986-E4F24D5F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791-22CF-477C-8CB4-B5AEB8C5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D1B-82C7-471E-B858-0CA47753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3A4-218C-4480-9C53-80ECC718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BBDE-1F72-46D0-A767-A9928391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635F-C19D-4C06-9B65-445D5405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E88-6AAE-499C-A326-824CE20A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8C9-CB3A-4782-AB42-6FD19C87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b83d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d49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f4e7e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13f9a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83d6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490c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83d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83d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215C-7568-437F-90AD-3763BE02B16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b83d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f4e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f4e7e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d49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f4e7e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13f9a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83d6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490c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83d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83d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90FA-C087-4C9E-89E0-8F48CB319A2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b13f9a"/>
                </a:solidFill>
                <a:latin typeface="Times New Roman"/>
              </a:rPr>
              <a:t>Денежная реформа 1992 –1993 годов</a:t>
            </a:r>
            <a:endParaRPr b="0" lang="en-US" sz="38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b83d68"/>
                </a:solidFill>
                <a:latin typeface="Arial"/>
              </a:rPr>
              <a:t> создание новой национальной денежной системы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83d68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b83d68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b83d6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b83d68"/>
                </a:solidFill>
                <a:latin typeface="Arial"/>
              </a:rPr>
              <a:t>В 1992 г в обращение появились банкноты Центрального банка РФ номиналом в 5000 и 10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83d68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b83d68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b83d68"/>
                </a:solidFill>
                <a:latin typeface="Arial"/>
              </a:rPr>
              <a:t>В 1993 г новая серия в 100, 200, 500,1000, 5000, 10000 и 50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"/>
          <a:srcRect l="0" t="77479" r="39526" b="0"/>
          <a:stretch/>
        </p:blipFill>
        <p:spPr>
          <a:xfrm>
            <a:off x="1042920" y="4149720"/>
            <a:ext cx="3745080" cy="1709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2"/>
          <a:srcRect l="0" t="26964" r="39526" b="49755"/>
          <a:stretch/>
        </p:blipFill>
        <p:spPr>
          <a:xfrm>
            <a:off x="1116000" y="2133720"/>
            <a:ext cx="3600360" cy="1706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b13f9a"/>
                </a:solidFill>
                <a:latin typeface="Times New Roman"/>
              </a:rPr>
              <a:t>Последствия </a:t>
            </a:r>
            <a:br>
              <a:rPr sz="3800"/>
            </a:br>
            <a:r>
              <a:rPr b="0" lang="ru-RU" sz="3800" spc="-1" strike="noStrike">
                <a:solidFill>
                  <a:srgbClr val="b13f9a"/>
                </a:solidFill>
                <a:latin typeface="Times New Roman"/>
              </a:rPr>
              <a:t>денежной реформы 1993 года</a:t>
            </a:r>
            <a:endParaRPr b="0" lang="en-US" sz="38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040" y="1844640"/>
            <a:ext cx="3809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83d68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b83d68"/>
                </a:solidFill>
                <a:latin typeface="Arial"/>
              </a:rPr>
              <a:t>Реформа не укрепила курса рубля, инфляция продолжалась, к середине 1990 годов, цены и заработная плата измерялись миллионами руб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83d68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b83d68"/>
                </a:solidFill>
                <a:latin typeface="Arial"/>
              </a:rPr>
              <a:t>С 1998 г осуществлялась деноминация рубля по соотношению 1000:1, срок обмена денег был установлен до 2002 года, затем продлен до 2003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rcRect l="0" t="0" r="28365" b="73681"/>
          <a:stretch/>
        </p:blipFill>
        <p:spPr>
          <a:xfrm>
            <a:off x="826920" y="1773360"/>
            <a:ext cx="4032360" cy="223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2"/>
          <a:srcRect l="0" t="61846" r="36459" b="4650"/>
          <a:stretch/>
        </p:blipFill>
        <p:spPr>
          <a:xfrm>
            <a:off x="755640" y="4221000"/>
            <a:ext cx="3960720" cy="2159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13:22Z</dcterms:created>
  <dc:creator>User</dc:creator>
  <dc:description/>
  <dc:language>en-US</dc:language>
  <cp:lastModifiedBy>Admin</cp:lastModifiedBy>
  <dcterms:modified xsi:type="dcterms:W3CDTF">2003-12-31T22:21:42Z</dcterms:modified>
  <cp:revision>35</cp:revision>
  <dc:subject/>
  <dc:title>Денежные реформы России</dc:title>
</cp:coreProperties>
</file>